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meme.nbcr.net/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meme.nbcr.net/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b.uq.edu.au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meme.nbcr.net/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meme.nbcr.net/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meme.nbcr.net/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meme.nbcr.net/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hyperlink" Target="http://jaspar.genereg.net/cgi-bin/jaspar_db.pl?ID=MA0140.1&amp;rm=present&amp;collection=CORE" TargetMode="External"/><Relationship Id="rId6" Type="http://schemas.openxmlformats.org/officeDocument/2006/relationships/slideLayout" Target="../slideLayouts/slideLayout1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temcells.nih.gov/info/2001report/pages/appendixA.aspx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en.wikipedia.org/wiki/Transcription_factor" TargetMode="External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EME workshop Wits May 2013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567684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Philip Machanick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Department of Computer Science, Rhodes University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9753480" y="8889840"/>
            <a:ext cx="3175200" cy="8128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25280" y="8521560"/>
            <a:ext cx="3213360" cy="11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hat is a motif?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numeric representation of the probability of a given base at each position in a binding sit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otif by exampl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"/>
          <p:cNvSpPr/>
          <p:nvPr/>
        </p:nvSpPr>
        <p:spPr>
          <a:xfrm>
            <a:off x="798480" y="3594240"/>
            <a:ext cx="2033640" cy="4241520"/>
          </a:xfrm>
          <a:prstGeom prst="rect">
            <a:avLst/>
          </a:prstGeom>
          <a:noFill/>
          <a:ln w="50760">
            <a:solidFill>
              <a:srgbClr val="a818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902120" y="3594240"/>
          <a:ext cx="3822840" cy="4190760"/>
        </p:xfrm>
        <a:graphic>
          <a:graphicData uri="http://schemas.openxmlformats.org/drawingml/2006/table">
            <a:tbl>
              <a:tblPr/>
              <a:tblGrid>
                <a:gridCol w="546120"/>
                <a:gridCol w="546120"/>
                <a:gridCol w="546120"/>
                <a:gridCol w="546120"/>
                <a:gridCol w="546120"/>
                <a:gridCol w="546120"/>
                <a:gridCol w="546120"/>
              </a:tblGrid>
              <a:tr h="10472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A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7f7f7f">
                        <a:alpha val="50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C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7f7f7f">
                        <a:alpha val="50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G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7f7f7f">
                        <a:alpha val="50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T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7f7f7f">
                        <a:alpha val="50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9042480" y="3594240"/>
          <a:ext cx="3822120" cy="4190760"/>
        </p:xfrm>
        <a:graphic>
          <a:graphicData uri="http://schemas.openxmlformats.org/drawingml/2006/table">
            <a:tbl>
              <a:tblPr/>
              <a:tblGrid>
                <a:gridCol w="636840"/>
                <a:gridCol w="637200"/>
                <a:gridCol w="636840"/>
                <a:gridCol w="637200"/>
                <a:gridCol w="636840"/>
                <a:gridCol w="637200"/>
              </a:tblGrid>
              <a:tr h="10472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.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.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.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"/>
          <p:cNvSpPr/>
          <p:nvPr/>
        </p:nvSpPr>
        <p:spPr>
          <a:xfrm>
            <a:off x="111240" y="2400480"/>
            <a:ext cx="395604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ligned sequenc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"/>
          <p:cNvSpPr/>
          <p:nvPr/>
        </p:nvSpPr>
        <p:spPr>
          <a:xfrm>
            <a:off x="5881680" y="2400480"/>
            <a:ext cx="155880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oun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"/>
          <p:cNvSpPr/>
          <p:nvPr/>
        </p:nvSpPr>
        <p:spPr>
          <a:xfrm>
            <a:off x="9202680" y="2400480"/>
            <a:ext cx="2739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robabilit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65160" y="3790800"/>
            <a:ext cx="5245200" cy="3670200"/>
            <a:chOff x="65160" y="3790800"/>
            <a:chExt cx="5245200" cy="3670200"/>
          </a:xfrm>
        </p:grpSpPr>
        <p:sp>
          <p:nvSpPr>
            <p:cNvPr id="560" name=""/>
            <p:cNvSpPr/>
            <p:nvPr/>
          </p:nvSpPr>
          <p:spPr>
            <a:xfrm>
              <a:off x="65160" y="3790800"/>
              <a:ext cx="524520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CAGATAAGCCGCA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7760" y="4487760"/>
              <a:ext cx="51055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CGGATAACCTGAT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760" y="5263200"/>
              <a:ext cx="521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CTGATAAAATCTG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7760" y="6038280"/>
              <a:ext cx="51181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CAGATAATATACA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7760" y="6813360"/>
              <a:ext cx="5067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CTGATAACAGATG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5996160" y="7323120"/>
            <a:ext cx="2151000" cy="215892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4908600" y="8508960"/>
            <a:ext cx="10414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logo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"/>
          <p:cNvSpPr/>
          <p:nvPr/>
        </p:nvSpPr>
        <p:spPr>
          <a:xfrm>
            <a:off x="4102200" y="2286000"/>
            <a:ext cx="1765080" cy="952560"/>
          </a:xfrm>
          <a:prstGeom prst="rightArrow">
            <a:avLst>
              <a:gd name="adj1" fmla="val 44000"/>
              <a:gd name="adj2" fmla="val 55993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"/>
          <p:cNvSpPr/>
          <p:nvPr/>
        </p:nvSpPr>
        <p:spPr>
          <a:xfrm>
            <a:off x="7454880" y="2286000"/>
            <a:ext cx="1765440" cy="952560"/>
          </a:xfrm>
          <a:prstGeom prst="rightArrow">
            <a:avLst>
              <a:gd name="adj1" fmla="val 44000"/>
              <a:gd name="adj2" fmla="val 56004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"/>
          <p:cNvSpPr/>
          <p:nvPr/>
        </p:nvSpPr>
        <p:spPr>
          <a:xfrm>
            <a:off x="8413920" y="8055000"/>
            <a:ext cx="431784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  <a:ea typeface="Lucida Grande"/>
              </a:rPr>
              <a:t>height = 2+∑log</a:t>
            </a:r>
            <a:r>
              <a:rPr b="0" lang="en-US" sz="3400" spc="-1" strike="noStrike" baseline="-9000">
                <a:solidFill>
                  <a:srgbClr val="000000"/>
                </a:solidFill>
                <a:latin typeface="Gill Sans"/>
                <a:ea typeface="Gill Sans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Gill Sans"/>
                <a:ea typeface="Gill Sans"/>
              </a:rPr>
              <a:t>f</a:t>
            </a:r>
            <a:r>
              <a:rPr b="0" i="1" lang="en-US" sz="3400" spc="-1" strike="noStrike" baseline="-6000">
                <a:solidFill>
                  <a:srgbClr val="000000"/>
                </a:solidFill>
                <a:latin typeface="Gill Sans"/>
                <a:ea typeface="Gill Sans"/>
              </a:rPr>
              <a:t>b</a:t>
            </a:r>
            <a:r>
              <a:rPr b="0" lang="en-US" sz="3400" spc="-1" strike="noStrike" baseline="-6000">
                <a:solidFill>
                  <a:srgbClr val="000000"/>
                </a:solidFill>
                <a:latin typeface="Gill Sans"/>
                <a:ea typeface="Gill Sans"/>
              </a:rPr>
              <a:t>,</a:t>
            </a:r>
            <a:r>
              <a:rPr b="0" i="1" lang="en-US" sz="3400" spc="-1" strike="noStrike" baseline="-6000">
                <a:solidFill>
                  <a:srgbClr val="000000"/>
                </a:solidFill>
                <a:latin typeface="Gill Sans"/>
                <a:ea typeface="Gill Sans"/>
              </a:rPr>
              <a:t>j</a:t>
            </a:r>
            <a:r>
              <a:rPr b="0" lang="en-US" sz="3400" spc="-1" strike="noStrike">
                <a:solidFill>
                  <a:srgbClr val="000000"/>
                </a:solidFill>
                <a:latin typeface="Gill Sans"/>
                <a:ea typeface="Gill Sans"/>
              </a:rPr>
              <a:t> x </a:t>
            </a:r>
            <a:r>
              <a:rPr b="0" i="1" lang="en-US" sz="3400" spc="-1" strike="noStrike">
                <a:solidFill>
                  <a:srgbClr val="000000"/>
                </a:solidFill>
                <a:latin typeface="Gill Sans"/>
                <a:ea typeface="Gill Sans"/>
              </a:rPr>
              <a:t>f</a:t>
            </a:r>
            <a:r>
              <a:rPr b="0" i="1" lang="en-US" sz="3400" spc="-1" strike="noStrike" baseline="-6000">
                <a:solidFill>
                  <a:srgbClr val="000000"/>
                </a:solidFill>
                <a:latin typeface="Gill Sans"/>
                <a:ea typeface="Gill Sans"/>
              </a:rPr>
              <a:t>b</a:t>
            </a:r>
            <a:r>
              <a:rPr b="0" lang="en-US" sz="3400" spc="-1" strike="noStrike" baseline="-6000">
                <a:solidFill>
                  <a:srgbClr val="000000"/>
                </a:solidFill>
                <a:latin typeface="Gill Sans"/>
                <a:ea typeface="Gill Sans"/>
              </a:rPr>
              <a:t>,</a:t>
            </a:r>
            <a:r>
              <a:rPr b="0" i="1" lang="en-US" sz="3400" spc="-1" strike="noStrike" baseline="-6000">
                <a:solidFill>
                  <a:srgbClr val="000000"/>
                </a:solidFill>
                <a:latin typeface="Gill Sans"/>
                <a:ea typeface="Gill Sans"/>
              </a:rPr>
              <a:t>j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000000"/>
                </a:solidFill>
                <a:latin typeface="Gill Sans"/>
                <a:ea typeface="Gill Sans"/>
              </a:rPr>
              <a:t>information content</a:t>
            </a:r>
            <a:endParaRPr b="0" lang="en-US" sz="4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"/>
          <p:cNvSpPr/>
          <p:nvPr/>
        </p:nvSpPr>
        <p:spPr>
          <a:xfrm>
            <a:off x="165240" y="8191440"/>
            <a:ext cx="440676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think of either as a model or </a:t>
            </a:r>
            <a:r>
              <a:rPr b="1" i="1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motif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hat motifs can’t do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annot model a binding site with variable 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spacing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annot model 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indirect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bindi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Data sourc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F binding si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older: ChIP-chip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ore recent: ChIP-seq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706760" indent="-5486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any public data sets, e.g. ENCOD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otif datab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tes of interest in genom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ocus her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iven a sequence set representing binding sites, find the binding motif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ank a set of motifs for enrichment in a sequence se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ttempt to identify binding partne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ompare motifs for similar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EME web servic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90920" indent="-508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ide range of available tools – a sample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86560" indent="-508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EME, DREME – 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de novo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motif finde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86560" indent="-508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AST, FIMO – match motifs to sequenc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86560" indent="-508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paMo, CentriMo – motif enrichment analys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86560" indent="-508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OMTOM – measure motif similar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hat we’ll do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rief summary of each too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en use a compendium: MEME-ChIP web servic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xamine how to solve a specific problem in more detai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otif discovery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 set of sequences representing binding reg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f a TF binds directly, we expect a section of each sequence to stand out from the backgroun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50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ources of binding region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urrently popular method: ChIP-seq (chromatin immunopreciptation followed by deep sequencing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any public data se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unfortunately a lot of data needs work to u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hIP-seq workflow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3089160" y="2173320"/>
            <a:ext cx="6702480" cy="723096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863640" y="9398160"/>
            <a:ext cx="11696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Elaine R Mardis. ChIP-seq: welcome to the new frontier, Nature Methods 4(8) Aug 2007 613–614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ho I am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799920" indent="-514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hodes Computer Science associate professo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799920" indent="-514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previously worked with MEME author Tim Bailey, Institute for Molecular Bioscience, University of Queensland, Australi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99880" indent="-514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orked on MEME extensions and new web services including MEME-ChIP and CentriMo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50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or now assume we have binding region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ach region a short sequence of DN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 set of such regions is needed for enough statistical power to find the binding si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EM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nds an alignment of sequences in which there is a site of high statistical similarity across as many sequences as possib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reates a numeric model of that sit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ests that model (motif) for likelihood it’s a valid motif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efines the mod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2797560" y="8703000"/>
            <a:ext cx="7398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 largely statistical approa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DREM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dentifies 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words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k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-mers) with statistically significant over-representa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ombines similar words using 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regular express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keeps going until no significant 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k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-mers lef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EME </a:t>
            </a:r>
            <a:r>
              <a:rPr b="0" i="1" lang="en-US" sz="8400" spc="-1" strike="noStrike">
                <a:solidFill>
                  <a:srgbClr val="000000"/>
                </a:solidFill>
                <a:latin typeface="Gill Sans"/>
              </a:rPr>
              <a:t>vs</a:t>
            </a: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 DREM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EME is much more computation-intens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an find longer motif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ut a lot slow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DREME fast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an find many shorter 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core motif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Exampl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3786120" y="3021120"/>
            <a:ext cx="5420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1"/>
              </a:rPr>
              <a:t>http://meme.nbcr.ne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2311560" y="4076640"/>
            <a:ext cx="6781680" cy="1778040"/>
          </a:xfrm>
          <a:prstGeom prst="rect">
            <a:avLst/>
          </a:prstGeom>
          <a:ln w="0">
            <a:noFill/>
          </a:ln>
        </p:spPr>
      </p:pic>
      <p:grpSp>
        <p:nvGrpSpPr>
          <p:cNvPr id="600" name=""/>
          <p:cNvGrpSpPr/>
          <p:nvPr/>
        </p:nvGrpSpPr>
        <p:grpSpPr>
          <a:xfrm>
            <a:off x="2579760" y="4603680"/>
            <a:ext cx="191160" cy="201600"/>
            <a:chOff x="2579760" y="4603680"/>
            <a:chExt cx="191160" cy="201600"/>
          </a:xfrm>
        </p:grpSpPr>
        <p:sp>
          <p:nvSpPr>
            <p:cNvPr id="601" name=""/>
            <p:cNvSpPr/>
            <p:nvPr/>
          </p:nvSpPr>
          <p:spPr>
            <a:xfrm>
              <a:off x="2579760" y="4616280"/>
              <a:ext cx="171360" cy="18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599560" y="4603680"/>
              <a:ext cx="171360" cy="18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2463840" y="4089240"/>
            <a:ext cx="7594560" cy="1841760"/>
          </a:xfrm>
          <a:prstGeom prst="rect">
            <a:avLst/>
          </a:prstGeom>
          <a:ln w="0">
            <a:noFill/>
          </a:ln>
        </p:spPr>
      </p:pic>
      <p:grpSp>
        <p:nvGrpSpPr>
          <p:cNvPr id="604" name=""/>
          <p:cNvGrpSpPr/>
          <p:nvPr/>
        </p:nvGrpSpPr>
        <p:grpSpPr>
          <a:xfrm>
            <a:off x="3456000" y="4819680"/>
            <a:ext cx="191520" cy="201600"/>
            <a:chOff x="3456000" y="4819680"/>
            <a:chExt cx="191520" cy="201600"/>
          </a:xfrm>
        </p:grpSpPr>
        <p:sp>
          <p:nvSpPr>
            <p:cNvPr id="605" name=""/>
            <p:cNvSpPr/>
            <p:nvPr/>
          </p:nvSpPr>
          <p:spPr>
            <a:xfrm>
              <a:off x="3456000" y="4832280"/>
              <a:ext cx="171720" cy="18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475800" y="4819680"/>
              <a:ext cx="171720" cy="18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607" name="" descr=""/>
          <p:cNvPicPr/>
          <p:nvPr/>
        </p:nvPicPr>
        <p:blipFill>
          <a:blip r:embed="rId4"/>
          <a:stretch/>
        </p:blipFill>
        <p:spPr>
          <a:xfrm>
            <a:off x="2006640" y="6197760"/>
            <a:ext cx="6743520" cy="2781000"/>
          </a:xfrm>
          <a:prstGeom prst="rect">
            <a:avLst/>
          </a:prstGeom>
          <a:ln w="0">
            <a:noFill/>
          </a:ln>
        </p:spPr>
      </p:pic>
      <p:grpSp>
        <p:nvGrpSpPr>
          <p:cNvPr id="608" name=""/>
          <p:cNvGrpSpPr/>
          <p:nvPr/>
        </p:nvGrpSpPr>
        <p:grpSpPr>
          <a:xfrm>
            <a:off x="6719760" y="8820000"/>
            <a:ext cx="191520" cy="201600"/>
            <a:chOff x="6719760" y="8820000"/>
            <a:chExt cx="191520" cy="201600"/>
          </a:xfrm>
        </p:grpSpPr>
        <p:sp>
          <p:nvSpPr>
            <p:cNvPr id="609" name=""/>
            <p:cNvSpPr/>
            <p:nvPr/>
          </p:nvSpPr>
          <p:spPr>
            <a:xfrm>
              <a:off x="6719760" y="8832600"/>
              <a:ext cx="171720" cy="18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39560" y="8820000"/>
              <a:ext cx="171720" cy="18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848960" y="9160200"/>
            <a:ext cx="9295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 toy example to illustrate principl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5716440" y="2226240"/>
            <a:ext cx="1561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MEM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2959200" y="4711680"/>
            <a:ext cx="8547120" cy="337824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EME detai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3114000" y="2226240"/>
            <a:ext cx="6764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croll through the examp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2620800" y="3076920"/>
            <a:ext cx="3508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things to not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4572000" y="5245200"/>
            <a:ext cx="1155600" cy="342720"/>
            <a:chOff x="4572000" y="5245200"/>
            <a:chExt cx="1155600" cy="342720"/>
          </a:xfrm>
        </p:grpSpPr>
        <p:sp>
          <p:nvSpPr>
            <p:cNvPr id="618" name=""/>
            <p:cNvSpPr/>
            <p:nvPr/>
          </p:nvSpPr>
          <p:spPr>
            <a:xfrm>
              <a:off x="4610160" y="5283000"/>
              <a:ext cx="1079280" cy="26640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19" name="" descr=""/>
            <p:cNvPicPr/>
            <p:nvPr/>
          </p:nvPicPr>
          <p:blipFill>
            <a:blip r:embed="rId2"/>
            <a:stretch/>
          </p:blipFill>
          <p:spPr>
            <a:xfrm>
              <a:off x="4572000" y="5245200"/>
              <a:ext cx="115560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0" name=""/>
          <p:cNvSpPr/>
          <p:nvPr/>
        </p:nvSpPr>
        <p:spPr>
          <a:xfrm flipV="1">
            <a:off x="5224320" y="4635000"/>
            <a:ext cx="640080" cy="628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1536840" y="4267080"/>
            <a:ext cx="7683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-value: how many like this motif in a random sequence set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572000" y="5511960"/>
            <a:ext cx="1155600" cy="342720"/>
            <a:chOff x="4572000" y="5511960"/>
            <a:chExt cx="1155600" cy="342720"/>
          </a:xfrm>
        </p:grpSpPr>
        <p:sp>
          <p:nvSpPr>
            <p:cNvPr id="623" name=""/>
            <p:cNvSpPr/>
            <p:nvPr/>
          </p:nvSpPr>
          <p:spPr>
            <a:xfrm>
              <a:off x="4610160" y="5549760"/>
              <a:ext cx="1079280" cy="26640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24" name="" descr=""/>
            <p:cNvPicPr/>
            <p:nvPr/>
          </p:nvPicPr>
          <p:blipFill>
            <a:blip r:embed="rId3"/>
            <a:stretch/>
          </p:blipFill>
          <p:spPr>
            <a:xfrm>
              <a:off x="4572000" y="5511960"/>
              <a:ext cx="115560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5" name=""/>
          <p:cNvSpPr/>
          <p:nvPr/>
        </p:nvSpPr>
        <p:spPr>
          <a:xfrm>
            <a:off x="5224320" y="5803920"/>
            <a:ext cx="301680" cy="301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1486080" y="5873760"/>
            <a:ext cx="768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how many sites used to construct this motif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2774160" y="8957160"/>
            <a:ext cx="7943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toy example: only 18 sequenc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EME more detai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4735800" y="2226240"/>
            <a:ext cx="3522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for each motif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1727280" y="2933640"/>
            <a:ext cx="8585280" cy="261612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1117440" y="4965840"/>
            <a:ext cx="15430680" cy="34416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723600" y="8576280"/>
            <a:ext cx="11546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lus more detail, options to invoke other tool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EME output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otifs based on sequenc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tats on those motif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details on where they are in the sequenc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Exampl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3786120" y="3021120"/>
            <a:ext cx="5420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1"/>
              </a:rPr>
              <a:t>http://meme.nbcr.ne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2311560" y="4076640"/>
            <a:ext cx="6781680" cy="1778040"/>
          </a:xfrm>
          <a:prstGeom prst="rect">
            <a:avLst/>
          </a:prstGeom>
          <a:ln w="0">
            <a:noFill/>
          </a:ln>
        </p:spPr>
      </p:pic>
      <p:grpSp>
        <p:nvGrpSpPr>
          <p:cNvPr id="638" name=""/>
          <p:cNvGrpSpPr/>
          <p:nvPr/>
        </p:nvGrpSpPr>
        <p:grpSpPr>
          <a:xfrm>
            <a:off x="2579760" y="4603680"/>
            <a:ext cx="191160" cy="201600"/>
            <a:chOff x="2579760" y="4603680"/>
            <a:chExt cx="191160" cy="201600"/>
          </a:xfrm>
        </p:grpSpPr>
        <p:sp>
          <p:nvSpPr>
            <p:cNvPr id="639" name=""/>
            <p:cNvSpPr/>
            <p:nvPr/>
          </p:nvSpPr>
          <p:spPr>
            <a:xfrm>
              <a:off x="2579760" y="4616280"/>
              <a:ext cx="171360" cy="18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99560" y="4603680"/>
              <a:ext cx="171360" cy="18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641" name="" descr=""/>
          <p:cNvPicPr/>
          <p:nvPr/>
        </p:nvPicPr>
        <p:blipFill>
          <a:blip r:embed="rId3"/>
          <a:stretch/>
        </p:blipFill>
        <p:spPr>
          <a:xfrm>
            <a:off x="2463840" y="4089240"/>
            <a:ext cx="7594560" cy="1841760"/>
          </a:xfrm>
          <a:prstGeom prst="rect">
            <a:avLst/>
          </a:prstGeom>
          <a:ln w="0">
            <a:noFill/>
          </a:ln>
        </p:spPr>
      </p:pic>
      <p:grpSp>
        <p:nvGrpSpPr>
          <p:cNvPr id="642" name=""/>
          <p:cNvGrpSpPr/>
          <p:nvPr/>
        </p:nvGrpSpPr>
        <p:grpSpPr>
          <a:xfrm>
            <a:off x="3456000" y="4819680"/>
            <a:ext cx="191520" cy="201600"/>
            <a:chOff x="3456000" y="4819680"/>
            <a:chExt cx="191520" cy="201600"/>
          </a:xfrm>
        </p:grpSpPr>
        <p:sp>
          <p:nvSpPr>
            <p:cNvPr id="643" name=""/>
            <p:cNvSpPr/>
            <p:nvPr/>
          </p:nvSpPr>
          <p:spPr>
            <a:xfrm>
              <a:off x="3456000" y="4832280"/>
              <a:ext cx="171720" cy="18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75800" y="4819680"/>
              <a:ext cx="171720" cy="18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1201320" y="9160200"/>
            <a:ext cx="10589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 smallish example to illustrate principl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"/>
          <p:cNvSpPr/>
          <p:nvPr/>
        </p:nvSpPr>
        <p:spPr>
          <a:xfrm>
            <a:off x="5597280" y="2226240"/>
            <a:ext cx="1798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DREM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4"/>
          <a:stretch/>
        </p:blipFill>
        <p:spPr>
          <a:xfrm>
            <a:off x="5092560" y="5473800"/>
            <a:ext cx="6743880" cy="2781360"/>
          </a:xfrm>
          <a:prstGeom prst="rect">
            <a:avLst/>
          </a:prstGeom>
          <a:ln w="0">
            <a:noFill/>
          </a:ln>
        </p:spPr>
      </p:pic>
      <p:grpSp>
        <p:nvGrpSpPr>
          <p:cNvPr id="648" name=""/>
          <p:cNvGrpSpPr/>
          <p:nvPr/>
        </p:nvGrpSpPr>
        <p:grpSpPr>
          <a:xfrm>
            <a:off x="9869400" y="6508800"/>
            <a:ext cx="191520" cy="201600"/>
            <a:chOff x="9869400" y="6508800"/>
            <a:chExt cx="191520" cy="201600"/>
          </a:xfrm>
        </p:grpSpPr>
        <p:sp>
          <p:nvSpPr>
            <p:cNvPr id="649" name=""/>
            <p:cNvSpPr/>
            <p:nvPr/>
          </p:nvSpPr>
          <p:spPr>
            <a:xfrm>
              <a:off x="9869400" y="6521400"/>
              <a:ext cx="171720" cy="18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9889200" y="6508800"/>
              <a:ext cx="171720" cy="18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2540160" y="4343400"/>
            <a:ext cx="6006960" cy="434340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DREME detai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"/>
          <p:cNvSpPr/>
          <p:nvPr/>
        </p:nvSpPr>
        <p:spPr>
          <a:xfrm>
            <a:off x="3114000" y="2226240"/>
            <a:ext cx="6764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croll through the examp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7620120" y="4762440"/>
            <a:ext cx="1155600" cy="343080"/>
            <a:chOff x="7620120" y="4762440"/>
            <a:chExt cx="1155600" cy="343080"/>
          </a:xfrm>
        </p:grpSpPr>
        <p:sp>
          <p:nvSpPr>
            <p:cNvPr id="655" name=""/>
            <p:cNvSpPr/>
            <p:nvPr/>
          </p:nvSpPr>
          <p:spPr>
            <a:xfrm>
              <a:off x="7658280" y="4800600"/>
              <a:ext cx="1079280" cy="26676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56" name="" descr=""/>
            <p:cNvPicPr/>
            <p:nvPr/>
          </p:nvPicPr>
          <p:blipFill>
            <a:blip r:embed="rId2"/>
            <a:stretch/>
          </p:blipFill>
          <p:spPr>
            <a:xfrm>
              <a:off x="7620120" y="4762440"/>
              <a:ext cx="115560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"/>
          <p:cNvSpPr/>
          <p:nvPr/>
        </p:nvSpPr>
        <p:spPr>
          <a:xfrm flipV="1">
            <a:off x="8271720" y="4152960"/>
            <a:ext cx="639720" cy="628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"/>
          <p:cNvSpPr/>
          <p:nvPr/>
        </p:nvSpPr>
        <p:spPr>
          <a:xfrm>
            <a:off x="800280" y="3784680"/>
            <a:ext cx="11467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-value: Fisher exact test </a:t>
            </a:r>
            <a:r>
              <a:rPr b="0" i="1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p</a:t>
            </a:r>
            <a:r>
              <a:rPr b="0" lang="en-US" sz="2300" spc="-1" strike="noStrike">
                <a:solidFill>
                  <a:srgbClr val="ff0000"/>
                </a:solidFill>
                <a:latin typeface="Gill Sans"/>
                <a:ea typeface="Gill Sans"/>
              </a:rPr>
              <a:t>-value </a:t>
            </a:r>
            <a:r>
              <a:rPr b="0" i="1" lang="en-US" sz="2300" spc="-1" strike="noStrike">
                <a:solidFill>
                  <a:srgbClr val="ff0000"/>
                </a:solidFill>
                <a:latin typeface="Gill Sans"/>
                <a:ea typeface="Gill Sans"/>
              </a:rPr>
              <a:t>vs</a:t>
            </a:r>
            <a:r>
              <a:rPr b="0" lang="en-US" sz="2300" spc="-1" strike="noStrike">
                <a:solidFill>
                  <a:srgbClr val="ff0000"/>
                </a:solidFill>
                <a:latin typeface="Gill Sans"/>
                <a:ea typeface="Gill Sans"/>
              </a:rPr>
              <a:t>. shuffled version of sequences scaled by number of motif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"/>
          <p:cNvSpPr/>
          <p:nvPr/>
        </p:nvSpPr>
        <p:spPr>
          <a:xfrm>
            <a:off x="2820600" y="8957160"/>
            <a:ext cx="7850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bigger example: 904 sequenc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"/>
          <p:cNvSpPr/>
          <p:nvPr/>
        </p:nvSpPr>
        <p:spPr>
          <a:xfrm>
            <a:off x="458640" y="2949840"/>
            <a:ext cx="7026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mall sample of motifs found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-696960" y="-77760"/>
            <a:ext cx="17257680" cy="997092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000000"/>
                </a:solidFill>
                <a:latin typeface="Gill Sans"/>
              </a:rPr>
              <a:t>IMB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3787920" y="8774280"/>
            <a:ext cx="54136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2"/>
              </a:rPr>
              <a:t>http://imb.uq.edu.au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/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2171880" y="7613640"/>
            <a:ext cx="864864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400 research staff and students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$80-million annual budge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9664560" y="800280"/>
            <a:ext cx="2921040" cy="417816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9232920" y="4902120"/>
            <a:ext cx="3771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Dr Tim Bailey</a:t>
            </a:r>
            <a:br>
              <a:rPr sz="4200"/>
            </a:br>
            <a:r>
              <a:rPr b="1" i="1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8 group member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DREME output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otifs based on sequenc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tats on those motif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"/>
          <p:cNvSpPr/>
          <p:nvPr/>
        </p:nvSpPr>
        <p:spPr>
          <a:xfrm>
            <a:off x="3974040" y="8957160"/>
            <a:ext cx="554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less detail than MEM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nalysis of found motif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re they similar to known motifs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ould they have binding partners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omparing motif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OMTOM compares motifs to motif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query set: one or more motif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arget set: one or more motif datab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otif Enrichment Analysis (MEA)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how likely is it that a given motif represents direct binding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at other motifs could be involved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wo options availabl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central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enrichmen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hIP-seq binding regions tend to be centred on the binding sit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nriched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 spaci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inding partners likely to have a preferred spacing from each oth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50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entriMo: central motif enrichment analysi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iv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inding regions as equal-length sequenc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database(s) of motif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ank the motifs by how strongly their 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best site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is centr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52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entriMo statistical approach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r each motif find the site that best matches it and discard any with 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log likelihood ratio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&lt; cutoff (usually 5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alculate the binomial 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-value for the fraction of best sites within a central window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 flipH="1">
            <a:off x="2301840" y="473040"/>
            <a:ext cx="8958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"/>
          <p:cNvSpPr/>
          <p:nvPr/>
        </p:nvSpPr>
        <p:spPr>
          <a:xfrm>
            <a:off x="2311560" y="939960"/>
            <a:ext cx="8966160" cy="469800"/>
          </a:xfrm>
          <a:prstGeom prst="rect">
            <a:avLst/>
          </a:prstGeom>
          <a:solidFill>
            <a:srgbClr val="cdcdc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"/>
          <p:cNvSpPr/>
          <p:nvPr/>
        </p:nvSpPr>
        <p:spPr>
          <a:xfrm>
            <a:off x="2311560" y="1447920"/>
            <a:ext cx="8966160" cy="469800"/>
          </a:xfrm>
          <a:prstGeom prst="rect">
            <a:avLst/>
          </a:prstGeom>
          <a:solidFill>
            <a:srgbClr val="cdcdc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"/>
          <p:cNvSpPr/>
          <p:nvPr/>
        </p:nvSpPr>
        <p:spPr>
          <a:xfrm>
            <a:off x="2311560" y="1955880"/>
            <a:ext cx="8966160" cy="469800"/>
          </a:xfrm>
          <a:prstGeom prst="rect">
            <a:avLst/>
          </a:prstGeom>
          <a:solidFill>
            <a:srgbClr val="cdcdc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"/>
          <p:cNvSpPr/>
          <p:nvPr/>
        </p:nvSpPr>
        <p:spPr>
          <a:xfrm>
            <a:off x="2311560" y="2463840"/>
            <a:ext cx="8966160" cy="469800"/>
          </a:xfrm>
          <a:prstGeom prst="rect">
            <a:avLst/>
          </a:prstGeom>
          <a:solidFill>
            <a:srgbClr val="cdcdc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"/>
          <p:cNvSpPr/>
          <p:nvPr/>
        </p:nvSpPr>
        <p:spPr>
          <a:xfrm>
            <a:off x="2311560" y="2971800"/>
            <a:ext cx="8966160" cy="469800"/>
          </a:xfrm>
          <a:prstGeom prst="rect">
            <a:avLst/>
          </a:prstGeom>
          <a:solidFill>
            <a:srgbClr val="cdcdc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"/>
          <p:cNvSpPr/>
          <p:nvPr/>
        </p:nvSpPr>
        <p:spPr>
          <a:xfrm>
            <a:off x="2311560" y="3479760"/>
            <a:ext cx="8966160" cy="469800"/>
          </a:xfrm>
          <a:prstGeom prst="rect">
            <a:avLst/>
          </a:prstGeom>
          <a:solidFill>
            <a:srgbClr val="cdcdc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3" name=""/>
          <p:cNvSpPr/>
          <p:nvPr/>
        </p:nvSpPr>
        <p:spPr>
          <a:xfrm>
            <a:off x="2311560" y="3987720"/>
            <a:ext cx="8966160" cy="470160"/>
          </a:xfrm>
          <a:prstGeom prst="rect">
            <a:avLst/>
          </a:prstGeom>
          <a:solidFill>
            <a:srgbClr val="cdcdc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"/>
          <p:cNvSpPr/>
          <p:nvPr/>
        </p:nvSpPr>
        <p:spPr>
          <a:xfrm>
            <a:off x="2311560" y="4495680"/>
            <a:ext cx="8966160" cy="470160"/>
          </a:xfrm>
          <a:prstGeom prst="rect">
            <a:avLst/>
          </a:prstGeom>
          <a:solidFill>
            <a:srgbClr val="cdcdc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5" name=""/>
          <p:cNvSpPr/>
          <p:nvPr/>
        </p:nvSpPr>
        <p:spPr>
          <a:xfrm>
            <a:off x="2311560" y="5016600"/>
            <a:ext cx="8966160" cy="469800"/>
          </a:xfrm>
          <a:prstGeom prst="rect">
            <a:avLst/>
          </a:prstGeom>
          <a:solidFill>
            <a:srgbClr val="cdcdc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6" name=""/>
          <p:cNvSpPr/>
          <p:nvPr/>
        </p:nvSpPr>
        <p:spPr>
          <a:xfrm>
            <a:off x="2311560" y="5537160"/>
            <a:ext cx="8966160" cy="469800"/>
          </a:xfrm>
          <a:prstGeom prst="rect">
            <a:avLst/>
          </a:prstGeom>
          <a:solidFill>
            <a:srgbClr val="cdcdc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"/>
          <p:cNvSpPr/>
          <p:nvPr/>
        </p:nvSpPr>
        <p:spPr>
          <a:xfrm>
            <a:off x="2311560" y="6058080"/>
            <a:ext cx="8966160" cy="469800"/>
          </a:xfrm>
          <a:prstGeom prst="rect">
            <a:avLst/>
          </a:prstGeom>
          <a:solidFill>
            <a:srgbClr val="cdcdc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"/>
          <p:cNvSpPr/>
          <p:nvPr/>
        </p:nvSpPr>
        <p:spPr>
          <a:xfrm>
            <a:off x="2311560" y="6578640"/>
            <a:ext cx="8966160" cy="469800"/>
          </a:xfrm>
          <a:prstGeom prst="rect">
            <a:avLst/>
          </a:prstGeom>
          <a:solidFill>
            <a:srgbClr val="cdcdc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2793960" y="114480"/>
            <a:ext cx="1803600" cy="55872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 rot="16200000">
            <a:off x="266040" y="3902400"/>
            <a:ext cx="2655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equenc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"/>
          <p:cNvSpPr/>
          <p:nvPr/>
        </p:nvSpPr>
        <p:spPr>
          <a:xfrm>
            <a:off x="101520" y="8464680"/>
            <a:ext cx="1278900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Gill Sans"/>
                <a:ea typeface="Gill Sans"/>
              </a:rPr>
              <a:t>1/4 of sequences in window containing 0.6 of best sites, </a:t>
            </a:r>
            <a:r>
              <a:rPr b="0" i="1" lang="en-US" sz="3600" spc="-1" strike="noStrike">
                <a:solidFill>
                  <a:srgbClr val="ff6633"/>
                </a:solidFill>
                <a:latin typeface="Gill Sans"/>
                <a:ea typeface="Gill Sans"/>
              </a:rPr>
              <a:t>p</a:t>
            </a:r>
            <a:r>
              <a:rPr b="0" lang="en-US" sz="3600" spc="-1" strike="noStrike">
                <a:solidFill>
                  <a:srgbClr val="ff6633"/>
                </a:solidFill>
                <a:latin typeface="Gill Sans"/>
                <a:ea typeface="Gill Sans"/>
              </a:rPr>
              <a:t>=0.0197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2" name=""/>
          <p:cNvSpPr/>
          <p:nvPr/>
        </p:nvSpPr>
        <p:spPr>
          <a:xfrm>
            <a:off x="2629080" y="939960"/>
            <a:ext cx="164880" cy="4698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"/>
          <p:cNvSpPr/>
          <p:nvPr/>
        </p:nvSpPr>
        <p:spPr>
          <a:xfrm>
            <a:off x="6959520" y="1955880"/>
            <a:ext cx="165240" cy="4698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"/>
          <p:cNvSpPr/>
          <p:nvPr/>
        </p:nvSpPr>
        <p:spPr>
          <a:xfrm>
            <a:off x="6273720" y="2502000"/>
            <a:ext cx="165240" cy="4698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"/>
          <p:cNvSpPr/>
          <p:nvPr/>
        </p:nvSpPr>
        <p:spPr>
          <a:xfrm>
            <a:off x="6692760" y="3505320"/>
            <a:ext cx="165240" cy="4698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6" name=""/>
          <p:cNvSpPr/>
          <p:nvPr/>
        </p:nvSpPr>
        <p:spPr>
          <a:xfrm>
            <a:off x="5423040" y="3949560"/>
            <a:ext cx="164880" cy="470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"/>
          <p:cNvSpPr/>
          <p:nvPr/>
        </p:nvSpPr>
        <p:spPr>
          <a:xfrm>
            <a:off x="8115480" y="4521240"/>
            <a:ext cx="164880" cy="4698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"/>
          <p:cNvSpPr/>
          <p:nvPr/>
        </p:nvSpPr>
        <p:spPr>
          <a:xfrm>
            <a:off x="6959520" y="5029200"/>
            <a:ext cx="165240" cy="4698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"/>
          <p:cNvSpPr/>
          <p:nvPr/>
        </p:nvSpPr>
        <p:spPr>
          <a:xfrm>
            <a:off x="6413400" y="5549760"/>
            <a:ext cx="165240" cy="470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"/>
          <p:cNvSpPr/>
          <p:nvPr/>
        </p:nvSpPr>
        <p:spPr>
          <a:xfrm>
            <a:off x="7645320" y="6045120"/>
            <a:ext cx="165240" cy="470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1" name=""/>
          <p:cNvSpPr/>
          <p:nvPr/>
        </p:nvSpPr>
        <p:spPr>
          <a:xfrm>
            <a:off x="9309240" y="6553080"/>
            <a:ext cx="164880" cy="470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5397480" y="642960"/>
            <a:ext cx="3060720" cy="6572160"/>
            <a:chOff x="5397480" y="642960"/>
            <a:chExt cx="3060720" cy="6572160"/>
          </a:xfrm>
        </p:grpSpPr>
        <p:sp>
          <p:nvSpPr>
            <p:cNvPr id="703" name=""/>
            <p:cNvSpPr/>
            <p:nvPr/>
          </p:nvSpPr>
          <p:spPr>
            <a:xfrm>
              <a:off x="8458200" y="642960"/>
              <a:ext cx="0" cy="65721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397480" y="642960"/>
              <a:ext cx="0" cy="65721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101520" y="9061560"/>
            <a:ext cx="1278900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1/3 of sequences in window containing 0.8 of best sites, </a:t>
            </a:r>
            <a:r>
              <a:rPr b="0" i="1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=0.0034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5829480" y="642960"/>
            <a:ext cx="2222280" cy="6572160"/>
            <a:chOff x="5829480" y="642960"/>
            <a:chExt cx="2222280" cy="6572160"/>
          </a:xfrm>
        </p:grpSpPr>
        <p:sp>
          <p:nvSpPr>
            <p:cNvPr id="707" name=""/>
            <p:cNvSpPr/>
            <p:nvPr/>
          </p:nvSpPr>
          <p:spPr>
            <a:xfrm>
              <a:off x="5829480" y="642960"/>
              <a:ext cx="0" cy="6572160"/>
            </a:xfrm>
            <a:prstGeom prst="line">
              <a:avLst/>
            </a:prstGeom>
            <a:ln w="38160">
              <a:solidFill>
                <a:srgbClr val="ff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051760" y="642960"/>
              <a:ext cx="0" cy="6572160"/>
            </a:xfrm>
            <a:prstGeom prst="line">
              <a:avLst/>
            </a:prstGeom>
            <a:ln w="38160">
              <a:solidFill>
                <a:srgbClr val="ff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-102600" y="143280"/>
            <a:ext cx="2100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best sit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"/>
          <p:cNvSpPr/>
          <p:nvPr/>
        </p:nvSpPr>
        <p:spPr>
          <a:xfrm>
            <a:off x="101520" y="7842240"/>
            <a:ext cx="1278900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  <a:ea typeface="Gill Sans"/>
              </a:rPr>
              <a:t>1/6 of sequences in window containing 0.6 of best sites, </a:t>
            </a:r>
            <a:r>
              <a:rPr b="0" i="1" lang="en-US" sz="3600" spc="-1" strike="noStrike">
                <a:solidFill>
                  <a:srgbClr val="ff0000"/>
                </a:solidFill>
                <a:latin typeface="Gill Sans"/>
                <a:ea typeface="Gill Sans"/>
              </a:rPr>
              <a:t>p</a:t>
            </a:r>
            <a:r>
              <a:rPr b="0" lang="en-US" sz="3600" spc="-1" strike="noStrike">
                <a:solidFill>
                  <a:srgbClr val="ff0000"/>
                </a:solidFill>
                <a:latin typeface="Gill Sans"/>
                <a:ea typeface="Gill Sans"/>
              </a:rPr>
              <a:t>=0.00244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6299280" y="642960"/>
            <a:ext cx="1498680" cy="6635880"/>
            <a:chOff x="6299280" y="642960"/>
            <a:chExt cx="1498680" cy="6635880"/>
          </a:xfrm>
        </p:grpSpPr>
        <p:sp>
          <p:nvSpPr>
            <p:cNvPr id="712" name=""/>
            <p:cNvSpPr/>
            <p:nvPr/>
          </p:nvSpPr>
          <p:spPr>
            <a:xfrm>
              <a:off x="6299280" y="642960"/>
              <a:ext cx="0" cy="65721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797960" y="706320"/>
              <a:ext cx="0" cy="65725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101520" y="7296120"/>
            <a:ext cx="1278900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Gill Sans"/>
                <a:ea typeface="Gill Sans"/>
              </a:rPr>
              <a:t>1/8 of sequences in window containing 0.3 of best sites, </a:t>
            </a:r>
            <a:r>
              <a:rPr b="0" i="1" lang="en-US" sz="3600" spc="-1" strike="noStrike">
                <a:solidFill>
                  <a:srgbClr val="00ffff"/>
                </a:solidFill>
                <a:latin typeface="Gill Sans"/>
                <a:ea typeface="Gill Sans"/>
              </a:rPr>
              <a:t>p</a:t>
            </a:r>
            <a:r>
              <a:rPr b="0" lang="en-US" sz="3600" spc="-1" strike="noStrike">
                <a:solidFill>
                  <a:srgbClr val="00ffff"/>
                </a:solidFill>
                <a:latin typeface="Gill Sans"/>
                <a:ea typeface="Gill Sans"/>
              </a:rPr>
              <a:t>=0.12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6489720" y="642960"/>
            <a:ext cx="1117440" cy="6572160"/>
            <a:chOff x="6489720" y="642960"/>
            <a:chExt cx="1117440" cy="6572160"/>
          </a:xfrm>
        </p:grpSpPr>
        <p:sp>
          <p:nvSpPr>
            <p:cNvPr id="716" name=""/>
            <p:cNvSpPr/>
            <p:nvPr/>
          </p:nvSpPr>
          <p:spPr>
            <a:xfrm>
              <a:off x="6489720" y="642960"/>
              <a:ext cx="0" cy="657216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07160" y="642960"/>
              <a:ext cx="0" cy="657216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1968480" y="279360"/>
            <a:ext cx="165240" cy="4698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9" name=""/>
          <p:cNvSpPr/>
          <p:nvPr/>
        </p:nvSpPr>
        <p:spPr>
          <a:xfrm>
            <a:off x="12600" y="152280"/>
            <a:ext cx="2247840" cy="774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0578960" y="7912080"/>
            <a:ext cx="2260440" cy="571680"/>
            <a:chOff x="10578960" y="7912080"/>
            <a:chExt cx="2260440" cy="571680"/>
          </a:xfrm>
        </p:grpSpPr>
        <p:sp>
          <p:nvSpPr>
            <p:cNvPr id="721" name=""/>
            <p:cNvSpPr/>
            <p:nvPr/>
          </p:nvSpPr>
          <p:spPr>
            <a:xfrm>
              <a:off x="10617120" y="7962840"/>
              <a:ext cx="2184480" cy="482760"/>
            </a:xfrm>
            <a:prstGeom prst="roundRect">
              <a:avLst>
                <a:gd name="adj" fmla="val 39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22" name="" descr=""/>
            <p:cNvPicPr/>
            <p:nvPr/>
          </p:nvPicPr>
          <p:blipFill>
            <a:blip r:embed="rId2"/>
            <a:stretch/>
          </p:blipFill>
          <p:spPr>
            <a:xfrm>
              <a:off x="10578960" y="7912080"/>
              <a:ext cx="226044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"/>
          <p:cNvSpPr/>
          <p:nvPr/>
        </p:nvSpPr>
        <p:spPr>
          <a:xfrm>
            <a:off x="6299280" y="596880"/>
            <a:ext cx="1511280" cy="6616800"/>
          </a:xfrm>
          <a:prstGeom prst="rect">
            <a:avLst/>
          </a:prstGeom>
          <a:solidFill>
            <a:srgbClr val="ff271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entriMo output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entral enrichment of motif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inomial 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-value used to calculate central tendenc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lso look at how many sequences have a significant match to each motif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narrowness of</a:t>
            </a:r>
            <a:r>
              <a:rPr b="0" lang="en-US" sz="4100" spc="-1" strike="noStrike">
                <a:solidFill>
                  <a:srgbClr val="000000"/>
                </a:solidFill>
                <a:latin typeface="Gill Sans"/>
              </a:rPr>
              <a:t> lowest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-</a:t>
            </a:r>
            <a:r>
              <a:rPr b="0" lang="en-US" sz="4100" spc="-1" strike="noStrike">
                <a:solidFill>
                  <a:srgbClr val="000000"/>
                </a:solidFill>
                <a:latin typeface="Gill Sans"/>
              </a:rPr>
              <a:t>value 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indow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52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paMo: spaced motif analysi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iven a 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primary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motif, a motif database and sequence se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determine which motifs have a statistically significant preferred spacing from the primary motif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art 1: Overview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Exampl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9" name=""/>
          <p:cNvSpPr/>
          <p:nvPr/>
        </p:nvSpPr>
        <p:spPr>
          <a:xfrm>
            <a:off x="3786120" y="3021120"/>
            <a:ext cx="5420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1"/>
              </a:rPr>
              <a:t>http://meme.nbcr.ne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2311560" y="4076640"/>
            <a:ext cx="6781680" cy="1778040"/>
          </a:xfrm>
          <a:prstGeom prst="rect">
            <a:avLst/>
          </a:prstGeom>
          <a:ln w="0">
            <a:noFill/>
          </a:ln>
        </p:spPr>
      </p:pic>
      <p:grpSp>
        <p:nvGrpSpPr>
          <p:cNvPr id="731" name=""/>
          <p:cNvGrpSpPr/>
          <p:nvPr/>
        </p:nvGrpSpPr>
        <p:grpSpPr>
          <a:xfrm>
            <a:off x="2579760" y="4603680"/>
            <a:ext cx="191160" cy="201600"/>
            <a:chOff x="2579760" y="4603680"/>
            <a:chExt cx="191160" cy="201600"/>
          </a:xfrm>
        </p:grpSpPr>
        <p:sp>
          <p:nvSpPr>
            <p:cNvPr id="732" name=""/>
            <p:cNvSpPr/>
            <p:nvPr/>
          </p:nvSpPr>
          <p:spPr>
            <a:xfrm>
              <a:off x="2579760" y="4616280"/>
              <a:ext cx="171360" cy="18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599560" y="4603680"/>
              <a:ext cx="171360" cy="18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2463840" y="4089240"/>
            <a:ext cx="7594560" cy="1841760"/>
          </a:xfrm>
          <a:prstGeom prst="rect">
            <a:avLst/>
          </a:prstGeom>
          <a:ln w="0">
            <a:noFill/>
          </a:ln>
        </p:spPr>
      </p:pic>
      <p:grpSp>
        <p:nvGrpSpPr>
          <p:cNvPr id="735" name=""/>
          <p:cNvGrpSpPr/>
          <p:nvPr/>
        </p:nvGrpSpPr>
        <p:grpSpPr>
          <a:xfrm>
            <a:off x="3456000" y="4819680"/>
            <a:ext cx="191520" cy="201600"/>
            <a:chOff x="3456000" y="4819680"/>
            <a:chExt cx="191520" cy="201600"/>
          </a:xfrm>
        </p:grpSpPr>
        <p:sp>
          <p:nvSpPr>
            <p:cNvPr id="736" name=""/>
            <p:cNvSpPr/>
            <p:nvPr/>
          </p:nvSpPr>
          <p:spPr>
            <a:xfrm>
              <a:off x="3456000" y="4832280"/>
              <a:ext cx="171720" cy="18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75800" y="4819680"/>
              <a:ext cx="171720" cy="18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1201320" y="9160200"/>
            <a:ext cx="10589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 smallish example to illustrate principl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"/>
          <p:cNvSpPr/>
          <p:nvPr/>
        </p:nvSpPr>
        <p:spPr>
          <a:xfrm>
            <a:off x="5335200" y="2226240"/>
            <a:ext cx="2323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entriMo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4"/>
          <a:stretch/>
        </p:blipFill>
        <p:spPr>
          <a:xfrm>
            <a:off x="5499000" y="6045120"/>
            <a:ext cx="6527880" cy="2171880"/>
          </a:xfrm>
          <a:prstGeom prst="rect">
            <a:avLst/>
          </a:prstGeom>
          <a:ln w="0">
            <a:noFill/>
          </a:ln>
        </p:spPr>
      </p:pic>
      <p:grpSp>
        <p:nvGrpSpPr>
          <p:cNvPr id="741" name=""/>
          <p:cNvGrpSpPr/>
          <p:nvPr/>
        </p:nvGrpSpPr>
        <p:grpSpPr>
          <a:xfrm>
            <a:off x="9920160" y="7880400"/>
            <a:ext cx="191520" cy="201600"/>
            <a:chOff x="9920160" y="7880400"/>
            <a:chExt cx="191520" cy="201600"/>
          </a:xfrm>
        </p:grpSpPr>
        <p:sp>
          <p:nvSpPr>
            <p:cNvPr id="742" name=""/>
            <p:cNvSpPr/>
            <p:nvPr/>
          </p:nvSpPr>
          <p:spPr>
            <a:xfrm>
              <a:off x="9920160" y="7893000"/>
              <a:ext cx="171720" cy="18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939960" y="7880400"/>
              <a:ext cx="171720" cy="18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entriMo detai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5" name=""/>
          <p:cNvSpPr/>
          <p:nvPr/>
        </p:nvSpPr>
        <p:spPr>
          <a:xfrm>
            <a:off x="3114000" y="2226240"/>
            <a:ext cx="6764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croll through the examp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6" name=""/>
          <p:cNvSpPr/>
          <p:nvPr/>
        </p:nvSpPr>
        <p:spPr>
          <a:xfrm>
            <a:off x="3586680" y="8957160"/>
            <a:ext cx="6319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this time 1000 sequenc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507960" y="2946240"/>
            <a:ext cx="8928000" cy="59184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9893160" y="3733920"/>
            <a:ext cx="1816200" cy="15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5384880" y="6095880"/>
            <a:ext cx="6438960" cy="200664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Exampl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"/>
          <p:cNvSpPr/>
          <p:nvPr/>
        </p:nvSpPr>
        <p:spPr>
          <a:xfrm>
            <a:off x="3786120" y="3021120"/>
            <a:ext cx="5420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2"/>
              </a:rPr>
              <a:t>http://meme.nbcr.ne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3"/>
          <a:stretch/>
        </p:blipFill>
        <p:spPr>
          <a:xfrm>
            <a:off x="2311560" y="4076640"/>
            <a:ext cx="6781680" cy="1778040"/>
          </a:xfrm>
          <a:prstGeom prst="rect">
            <a:avLst/>
          </a:prstGeom>
          <a:ln w="0">
            <a:noFill/>
          </a:ln>
        </p:spPr>
      </p:pic>
      <p:grpSp>
        <p:nvGrpSpPr>
          <p:cNvPr id="753" name=""/>
          <p:cNvGrpSpPr/>
          <p:nvPr/>
        </p:nvGrpSpPr>
        <p:grpSpPr>
          <a:xfrm>
            <a:off x="2579760" y="4603680"/>
            <a:ext cx="191160" cy="201600"/>
            <a:chOff x="2579760" y="4603680"/>
            <a:chExt cx="191160" cy="201600"/>
          </a:xfrm>
        </p:grpSpPr>
        <p:sp>
          <p:nvSpPr>
            <p:cNvPr id="754" name=""/>
            <p:cNvSpPr/>
            <p:nvPr/>
          </p:nvSpPr>
          <p:spPr>
            <a:xfrm>
              <a:off x="2579760" y="4616280"/>
              <a:ext cx="171360" cy="18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599560" y="4603680"/>
              <a:ext cx="171360" cy="18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756" name="" descr=""/>
          <p:cNvPicPr/>
          <p:nvPr/>
        </p:nvPicPr>
        <p:blipFill>
          <a:blip r:embed="rId4"/>
          <a:stretch/>
        </p:blipFill>
        <p:spPr>
          <a:xfrm>
            <a:off x="2463840" y="4089240"/>
            <a:ext cx="7594560" cy="1841760"/>
          </a:xfrm>
          <a:prstGeom prst="rect">
            <a:avLst/>
          </a:prstGeom>
          <a:ln w="0">
            <a:noFill/>
          </a:ln>
        </p:spPr>
      </p:pic>
      <p:grpSp>
        <p:nvGrpSpPr>
          <p:cNvPr id="757" name=""/>
          <p:cNvGrpSpPr/>
          <p:nvPr/>
        </p:nvGrpSpPr>
        <p:grpSpPr>
          <a:xfrm>
            <a:off x="3456000" y="4819680"/>
            <a:ext cx="191520" cy="201600"/>
            <a:chOff x="3456000" y="4819680"/>
            <a:chExt cx="191520" cy="201600"/>
          </a:xfrm>
        </p:grpSpPr>
        <p:sp>
          <p:nvSpPr>
            <p:cNvPr id="758" name=""/>
            <p:cNvSpPr/>
            <p:nvPr/>
          </p:nvSpPr>
          <p:spPr>
            <a:xfrm>
              <a:off x="3456000" y="4832280"/>
              <a:ext cx="171720" cy="18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475800" y="4819680"/>
              <a:ext cx="171720" cy="18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1201320" y="9160200"/>
            <a:ext cx="10589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 smallish example to illustrate principl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1" name=""/>
          <p:cNvSpPr/>
          <p:nvPr/>
        </p:nvSpPr>
        <p:spPr>
          <a:xfrm>
            <a:off x="5634000" y="2226240"/>
            <a:ext cx="172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paMo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0009080" y="7156440"/>
            <a:ext cx="191520" cy="201600"/>
            <a:chOff x="10009080" y="7156440"/>
            <a:chExt cx="191520" cy="201600"/>
          </a:xfrm>
        </p:grpSpPr>
        <p:sp>
          <p:nvSpPr>
            <p:cNvPr id="763" name=""/>
            <p:cNvSpPr/>
            <p:nvPr/>
          </p:nvSpPr>
          <p:spPr>
            <a:xfrm>
              <a:off x="10009080" y="7169040"/>
              <a:ext cx="171720" cy="18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0028880" y="7156440"/>
              <a:ext cx="171720" cy="18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paMo detai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"/>
          <p:cNvSpPr/>
          <p:nvPr/>
        </p:nvSpPr>
        <p:spPr>
          <a:xfrm>
            <a:off x="3114000" y="2226240"/>
            <a:ext cx="6764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croll through the examp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1689120" y="3022560"/>
            <a:ext cx="8559720" cy="5765760"/>
          </a:xfrm>
          <a:prstGeom prst="rect">
            <a:avLst/>
          </a:prstGeom>
          <a:ln w="0">
            <a:noFill/>
          </a:ln>
        </p:spPr>
      </p:pic>
      <p:grpSp>
        <p:nvGrpSpPr>
          <p:cNvPr id="768" name=""/>
          <p:cNvGrpSpPr/>
          <p:nvPr/>
        </p:nvGrpSpPr>
        <p:grpSpPr>
          <a:xfrm>
            <a:off x="3594240" y="6946920"/>
            <a:ext cx="495000" cy="1308240"/>
            <a:chOff x="3594240" y="6946920"/>
            <a:chExt cx="495000" cy="1308240"/>
          </a:xfrm>
        </p:grpSpPr>
        <p:sp>
          <p:nvSpPr>
            <p:cNvPr id="769" name=""/>
            <p:cNvSpPr/>
            <p:nvPr/>
          </p:nvSpPr>
          <p:spPr>
            <a:xfrm>
              <a:off x="3644640" y="6985080"/>
              <a:ext cx="406080" cy="1231920"/>
            </a:xfrm>
            <a:custGeom>
              <a:avLst/>
              <a:gdLst>
                <a:gd name="textAreaLeft" fmla="*/ 55800 w 406080"/>
                <a:gd name="textAreaRight" fmla="*/ 350280 w 406080"/>
                <a:gd name="textAreaTop" fmla="*/ 55800 h 1231920"/>
                <a:gd name="textAreaBottom" fmla="*/ 1176120 h 1231920"/>
              </a:gdLst>
              <a:ahLst/>
              <a:rect l="textAreaLeft" t="textAreaTop" r="textAreaRight" b="textAreaBottom"/>
              <a:pathLst>
                <a:path w="21600" h="65489">
                  <a:moveTo>
                    <a:pt x="10125" y="0"/>
                  </a:moveTo>
                  <a:arcTo wR="10125" hR="10125" stAng="16200000" swAng="-5400000"/>
                  <a:lnTo>
                    <a:pt x="0" y="55364"/>
                  </a:lnTo>
                  <a:arcTo wR="10125" hR="10125" stAng="10800000" swAng="-5400000"/>
                  <a:lnTo>
                    <a:pt x="11475" y="65489"/>
                  </a:lnTo>
                  <a:arcTo wR="10125" hR="10125" stAng="5400000" swAng="-5400000"/>
                  <a:lnTo>
                    <a:pt x="21600" y="10125"/>
                  </a:lnTo>
                  <a:arcTo wR="10125" hR="10125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70" name="" descr=""/>
            <p:cNvPicPr/>
            <p:nvPr/>
          </p:nvPicPr>
          <p:blipFill>
            <a:blip r:embed="rId2"/>
            <a:stretch/>
          </p:blipFill>
          <p:spPr>
            <a:xfrm>
              <a:off x="3594240" y="6946920"/>
              <a:ext cx="495000" cy="13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"/>
          <p:cNvSpPr/>
          <p:nvPr/>
        </p:nvSpPr>
        <p:spPr>
          <a:xfrm>
            <a:off x="4068720" y="7804080"/>
            <a:ext cx="1265400" cy="1457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"/>
          <p:cNvSpPr/>
          <p:nvPr/>
        </p:nvSpPr>
        <p:spPr>
          <a:xfrm>
            <a:off x="800280" y="9124920"/>
            <a:ext cx="114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statistically significant spacing from primary motif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52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OMTOM: motif comparison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iven a motif and a motif databa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ank the motif database by match to the given motif (at all possible alignmen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5537160" y="6718320"/>
            <a:ext cx="6400800" cy="1371600"/>
          </a:xfrm>
          <a:prstGeom prst="rect">
            <a:avLst/>
          </a:prstGeom>
          <a:ln w="0">
            <a:noFill/>
          </a:ln>
        </p:spPr>
      </p:pic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Exampl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"/>
          <p:cNvSpPr/>
          <p:nvPr/>
        </p:nvSpPr>
        <p:spPr>
          <a:xfrm>
            <a:off x="3786120" y="3021120"/>
            <a:ext cx="5420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2"/>
              </a:rPr>
              <a:t>http://meme.nbcr.ne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3"/>
          <a:stretch/>
        </p:blipFill>
        <p:spPr>
          <a:xfrm>
            <a:off x="2311560" y="4076640"/>
            <a:ext cx="6781680" cy="1778040"/>
          </a:xfrm>
          <a:prstGeom prst="rect">
            <a:avLst/>
          </a:prstGeom>
          <a:ln w="0">
            <a:noFill/>
          </a:ln>
        </p:spPr>
      </p:pic>
      <p:grpSp>
        <p:nvGrpSpPr>
          <p:cNvPr id="779" name=""/>
          <p:cNvGrpSpPr/>
          <p:nvPr/>
        </p:nvGrpSpPr>
        <p:grpSpPr>
          <a:xfrm>
            <a:off x="2579760" y="4603680"/>
            <a:ext cx="191160" cy="201600"/>
            <a:chOff x="2579760" y="4603680"/>
            <a:chExt cx="191160" cy="201600"/>
          </a:xfrm>
        </p:grpSpPr>
        <p:sp>
          <p:nvSpPr>
            <p:cNvPr id="780" name=""/>
            <p:cNvSpPr/>
            <p:nvPr/>
          </p:nvSpPr>
          <p:spPr>
            <a:xfrm>
              <a:off x="2579760" y="4616280"/>
              <a:ext cx="171360" cy="18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599560" y="4603680"/>
              <a:ext cx="171360" cy="18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782" name="" descr=""/>
          <p:cNvPicPr/>
          <p:nvPr/>
        </p:nvPicPr>
        <p:blipFill>
          <a:blip r:embed="rId4"/>
          <a:stretch/>
        </p:blipFill>
        <p:spPr>
          <a:xfrm>
            <a:off x="2463840" y="4089240"/>
            <a:ext cx="7594560" cy="1841760"/>
          </a:xfrm>
          <a:prstGeom prst="rect">
            <a:avLst/>
          </a:prstGeom>
          <a:ln w="0">
            <a:noFill/>
          </a:ln>
        </p:spPr>
      </p:pic>
      <p:grpSp>
        <p:nvGrpSpPr>
          <p:cNvPr id="783" name=""/>
          <p:cNvGrpSpPr/>
          <p:nvPr/>
        </p:nvGrpSpPr>
        <p:grpSpPr>
          <a:xfrm>
            <a:off x="3456000" y="4819680"/>
            <a:ext cx="191520" cy="201600"/>
            <a:chOff x="3456000" y="4819680"/>
            <a:chExt cx="191520" cy="201600"/>
          </a:xfrm>
        </p:grpSpPr>
        <p:sp>
          <p:nvSpPr>
            <p:cNvPr id="784" name=""/>
            <p:cNvSpPr/>
            <p:nvPr/>
          </p:nvSpPr>
          <p:spPr>
            <a:xfrm>
              <a:off x="3456000" y="4832280"/>
              <a:ext cx="171720" cy="18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475800" y="4819680"/>
              <a:ext cx="171720" cy="18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1201320" y="9160200"/>
            <a:ext cx="10589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 smallish example to illustrate principl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7" name=""/>
          <p:cNvSpPr/>
          <p:nvPr/>
        </p:nvSpPr>
        <p:spPr>
          <a:xfrm>
            <a:off x="5299200" y="2226240"/>
            <a:ext cx="239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TOMTO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9920160" y="7880400"/>
            <a:ext cx="191520" cy="201600"/>
            <a:chOff x="9920160" y="7880400"/>
            <a:chExt cx="191520" cy="201600"/>
          </a:xfrm>
        </p:grpSpPr>
        <p:sp>
          <p:nvSpPr>
            <p:cNvPr id="789" name=""/>
            <p:cNvSpPr/>
            <p:nvPr/>
          </p:nvSpPr>
          <p:spPr>
            <a:xfrm>
              <a:off x="9920160" y="7893000"/>
              <a:ext cx="171720" cy="18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9939960" y="7880400"/>
              <a:ext cx="171720" cy="18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OMTOM detai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2" name=""/>
          <p:cNvSpPr/>
          <p:nvPr/>
        </p:nvSpPr>
        <p:spPr>
          <a:xfrm>
            <a:off x="3114000" y="2226240"/>
            <a:ext cx="6764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croll through the examp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9893160" y="3733920"/>
            <a:ext cx="1816200" cy="157464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800280" y="3632040"/>
            <a:ext cx="10451880" cy="3988080"/>
          </a:xfrm>
          <a:prstGeom prst="rect">
            <a:avLst/>
          </a:prstGeom>
          <a:ln w="0">
            <a:noFill/>
          </a:ln>
        </p:spPr>
      </p:pic>
      <p:grpSp>
        <p:nvGrpSpPr>
          <p:cNvPr id="795" name=""/>
          <p:cNvGrpSpPr/>
          <p:nvPr/>
        </p:nvGrpSpPr>
        <p:grpSpPr>
          <a:xfrm>
            <a:off x="609480" y="4711680"/>
            <a:ext cx="2679840" cy="1308240"/>
            <a:chOff x="609480" y="4711680"/>
            <a:chExt cx="2679840" cy="1308240"/>
          </a:xfrm>
        </p:grpSpPr>
        <p:sp>
          <p:nvSpPr>
            <p:cNvPr id="796" name=""/>
            <p:cNvSpPr/>
            <p:nvPr/>
          </p:nvSpPr>
          <p:spPr>
            <a:xfrm>
              <a:off x="660240" y="4749840"/>
              <a:ext cx="2590920" cy="1231920"/>
            </a:xfrm>
            <a:prstGeom prst="roundRect">
              <a:avLst>
                <a:gd name="adj" fmla="val 15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97" name="" descr=""/>
            <p:cNvPicPr/>
            <p:nvPr/>
          </p:nvPicPr>
          <p:blipFill>
            <a:blip r:embed="rId3"/>
            <a:stretch/>
          </p:blipFill>
          <p:spPr>
            <a:xfrm>
              <a:off x="609480" y="4711680"/>
              <a:ext cx="2679840" cy="13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8" name=""/>
          <p:cNvSpPr/>
          <p:nvPr/>
        </p:nvSpPr>
        <p:spPr>
          <a:xfrm>
            <a:off x="2319480" y="5994360"/>
            <a:ext cx="1201680" cy="2116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"/>
          <p:cNvSpPr/>
          <p:nvPr/>
        </p:nvSpPr>
        <p:spPr>
          <a:xfrm>
            <a:off x="1371600" y="7861320"/>
            <a:ext cx="83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statistics on the quality of match (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E</a:t>
            </a:r>
            <a:r>
              <a:rPr b="0" i="1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-value is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p</a:t>
            </a:r>
            <a:r>
              <a:rPr b="0" i="1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-value scaled for DB size;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q</a:t>
            </a:r>
            <a:r>
              <a:rPr b="0" i="1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 minimum false discovery rate to include the match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inally a quick and easy combo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EME-ChiP runs a combination of tool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rims large sequence sets so MEME can run in a reasonable amount of tim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EME-ChIP output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EME and DREM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entriMo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064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EME and DREME motifs combined with JASPAR CORE 2009 databa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OMTO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06440" indent="-559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parately: MEME, DREME 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vs. 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JASPAR CORE 2009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5499000" y="5257800"/>
            <a:ext cx="6438960" cy="3352680"/>
          </a:xfrm>
          <a:prstGeom prst="rect">
            <a:avLst/>
          </a:prstGeom>
          <a:ln w="0">
            <a:noFill/>
          </a:ln>
        </p:spPr>
      </p:pic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Exampl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6" name=""/>
          <p:cNvSpPr/>
          <p:nvPr/>
        </p:nvSpPr>
        <p:spPr>
          <a:xfrm>
            <a:off x="3786120" y="3021120"/>
            <a:ext cx="5420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2"/>
              </a:rPr>
              <a:t>http://meme.nbcr.ne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3"/>
          <a:stretch/>
        </p:blipFill>
        <p:spPr>
          <a:xfrm>
            <a:off x="2311560" y="4076640"/>
            <a:ext cx="6781680" cy="1778040"/>
          </a:xfrm>
          <a:prstGeom prst="rect">
            <a:avLst/>
          </a:prstGeom>
          <a:ln w="0">
            <a:noFill/>
          </a:ln>
        </p:spPr>
      </p:pic>
      <p:grpSp>
        <p:nvGrpSpPr>
          <p:cNvPr id="808" name=""/>
          <p:cNvGrpSpPr/>
          <p:nvPr/>
        </p:nvGrpSpPr>
        <p:grpSpPr>
          <a:xfrm>
            <a:off x="2579760" y="4603680"/>
            <a:ext cx="191160" cy="201600"/>
            <a:chOff x="2579760" y="4603680"/>
            <a:chExt cx="191160" cy="201600"/>
          </a:xfrm>
        </p:grpSpPr>
        <p:sp>
          <p:nvSpPr>
            <p:cNvPr id="809" name=""/>
            <p:cNvSpPr/>
            <p:nvPr/>
          </p:nvSpPr>
          <p:spPr>
            <a:xfrm>
              <a:off x="2579760" y="4616280"/>
              <a:ext cx="171360" cy="18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599560" y="4603680"/>
              <a:ext cx="171360" cy="18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811" name="" descr=""/>
          <p:cNvPicPr/>
          <p:nvPr/>
        </p:nvPicPr>
        <p:blipFill>
          <a:blip r:embed="rId4"/>
          <a:stretch/>
        </p:blipFill>
        <p:spPr>
          <a:xfrm>
            <a:off x="2463840" y="4089240"/>
            <a:ext cx="7594560" cy="1841760"/>
          </a:xfrm>
          <a:prstGeom prst="rect">
            <a:avLst/>
          </a:prstGeom>
          <a:ln w="0">
            <a:noFill/>
          </a:ln>
        </p:spPr>
      </p:pic>
      <p:grpSp>
        <p:nvGrpSpPr>
          <p:cNvPr id="812" name=""/>
          <p:cNvGrpSpPr/>
          <p:nvPr/>
        </p:nvGrpSpPr>
        <p:grpSpPr>
          <a:xfrm>
            <a:off x="3456000" y="4819680"/>
            <a:ext cx="191520" cy="201600"/>
            <a:chOff x="3456000" y="4819680"/>
            <a:chExt cx="191520" cy="201600"/>
          </a:xfrm>
        </p:grpSpPr>
        <p:sp>
          <p:nvSpPr>
            <p:cNvPr id="813" name=""/>
            <p:cNvSpPr/>
            <p:nvPr/>
          </p:nvSpPr>
          <p:spPr>
            <a:xfrm>
              <a:off x="3456000" y="4832280"/>
              <a:ext cx="171720" cy="18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475800" y="4819680"/>
              <a:ext cx="171720" cy="18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1201320" y="9160200"/>
            <a:ext cx="10589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 smallish example to illustrate principl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6" name=""/>
          <p:cNvSpPr/>
          <p:nvPr/>
        </p:nvSpPr>
        <p:spPr>
          <a:xfrm>
            <a:off x="5043960" y="2226240"/>
            <a:ext cx="2904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MEME-ChIP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10022040" y="8400960"/>
            <a:ext cx="191160" cy="201600"/>
            <a:chOff x="10022040" y="8400960"/>
            <a:chExt cx="191160" cy="201600"/>
          </a:xfrm>
        </p:grpSpPr>
        <p:sp>
          <p:nvSpPr>
            <p:cNvPr id="818" name=""/>
            <p:cNvSpPr/>
            <p:nvPr/>
          </p:nvSpPr>
          <p:spPr>
            <a:xfrm>
              <a:off x="10022040" y="8413560"/>
              <a:ext cx="171360" cy="18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041840" y="8400960"/>
              <a:ext cx="171360" cy="18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ocus of MEME tool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otif analys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ostly transcription facto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protein motifs also support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EME-ChIP summary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otifs ranked by 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E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-value no matter what the source – e.g., a CentriMo motif could be from a motif DB or from one of our motif finde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entriMo distribution summary shown for ea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EME-ChIP output exampl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1"/>
          <a:stretch/>
        </p:blipFill>
        <p:spPr>
          <a:xfrm>
            <a:off x="1244520" y="3327480"/>
            <a:ext cx="3987720" cy="1739880"/>
          </a:xfrm>
          <a:prstGeom prst="rect">
            <a:avLst/>
          </a:prstGeom>
          <a:ln w="0">
            <a:noFill/>
          </a:ln>
        </p:spPr>
      </p:pic>
      <p:grpSp>
        <p:nvGrpSpPr>
          <p:cNvPr id="824" name=""/>
          <p:cNvGrpSpPr/>
          <p:nvPr/>
        </p:nvGrpSpPr>
        <p:grpSpPr>
          <a:xfrm>
            <a:off x="5859000" y="3381840"/>
            <a:ext cx="2853720" cy="1465920"/>
            <a:chOff x="5859000" y="3381840"/>
            <a:chExt cx="2853720" cy="1465920"/>
          </a:xfrm>
        </p:grpSpPr>
        <p:sp>
          <p:nvSpPr>
            <p:cNvPr id="825" name=""/>
            <p:cNvSpPr/>
            <p:nvPr/>
          </p:nvSpPr>
          <p:spPr>
            <a:xfrm>
              <a:off x="6226920" y="3381840"/>
              <a:ext cx="16038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MEME</a:t>
              </a: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59000" y="4207320"/>
              <a:ext cx="28537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E=</a:t>
              </a: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8.1x10</a:t>
              </a:r>
              <a:r>
                <a:rPr b="0" lang="en-US" sz="4200" spc="-1" strike="noStrike" baseline="32000">
                  <a:solidFill>
                    <a:srgbClr val="000000"/>
                  </a:solidFill>
                  <a:latin typeface="Gill Sans"/>
                  <a:ea typeface="Gill Sans"/>
                </a:rPr>
                <a:t>-229</a:t>
              </a: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827" name="" descr=""/>
          <p:cNvPicPr/>
          <p:nvPr/>
        </p:nvPicPr>
        <p:blipFill>
          <a:blip r:embed="rId2"/>
          <a:stretch/>
        </p:blipFill>
        <p:spPr>
          <a:xfrm>
            <a:off x="8712360" y="3365640"/>
            <a:ext cx="2476440" cy="146052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3"/>
          <a:stretch/>
        </p:blipFill>
        <p:spPr>
          <a:xfrm>
            <a:off x="1092240" y="6210360"/>
            <a:ext cx="4660920" cy="1066680"/>
          </a:xfrm>
          <a:prstGeom prst="rect">
            <a:avLst/>
          </a:prstGeom>
          <a:ln w="0">
            <a:noFill/>
          </a:ln>
        </p:spPr>
      </p:pic>
      <p:grpSp>
        <p:nvGrpSpPr>
          <p:cNvPr id="829" name=""/>
          <p:cNvGrpSpPr/>
          <p:nvPr/>
        </p:nvGrpSpPr>
        <p:grpSpPr>
          <a:xfrm>
            <a:off x="5790600" y="5744160"/>
            <a:ext cx="2921400" cy="1465920"/>
            <a:chOff x="5790600" y="5744160"/>
            <a:chExt cx="2921400" cy="1465920"/>
          </a:xfrm>
        </p:grpSpPr>
        <p:sp>
          <p:nvSpPr>
            <p:cNvPr id="830" name=""/>
            <p:cNvSpPr/>
            <p:nvPr/>
          </p:nvSpPr>
          <p:spPr>
            <a:xfrm>
              <a:off x="5790600" y="5744160"/>
              <a:ext cx="24771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entriMo</a:t>
              </a: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58280" y="6569640"/>
              <a:ext cx="28537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E=</a:t>
              </a: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8.1x10</a:t>
              </a:r>
              <a:r>
                <a:rPr b="0" lang="en-US" sz="4200" spc="-1" strike="noStrike" baseline="32000">
                  <a:solidFill>
                    <a:srgbClr val="000000"/>
                  </a:solidFill>
                  <a:latin typeface="Gill Sans"/>
                  <a:ea typeface="Gill Sans"/>
                </a:rPr>
                <a:t>-229</a:t>
              </a: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832" name="" descr=""/>
          <p:cNvPicPr/>
          <p:nvPr/>
        </p:nvPicPr>
        <p:blipFill>
          <a:blip r:embed="rId4"/>
          <a:stretch/>
        </p:blipFill>
        <p:spPr>
          <a:xfrm>
            <a:off x="8737560" y="6172200"/>
            <a:ext cx="2438280" cy="105408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3059640" y="7516800"/>
            <a:ext cx="7817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JASPAR: 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5"/>
              </a:rPr>
              <a:t>Tal1::Gata1 (MA0140.1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4" name=""/>
          <p:cNvSpPr/>
          <p:nvPr/>
        </p:nvSpPr>
        <p:spPr>
          <a:xfrm>
            <a:off x="3234600" y="8868240"/>
            <a:ext cx="7023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heck out the other outpu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art 2 application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Run our own exampl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2882880" y="3835440"/>
            <a:ext cx="7607160" cy="3568680"/>
          </a:xfrm>
          <a:prstGeom prst="rect">
            <a:avLst/>
          </a:prstGeom>
          <a:ln w="0">
            <a:noFill/>
          </a:ln>
        </p:spPr>
      </p:pic>
      <p:grpSp>
        <p:nvGrpSpPr>
          <p:cNvPr id="838" name=""/>
          <p:cNvGrpSpPr/>
          <p:nvPr/>
        </p:nvGrpSpPr>
        <p:grpSpPr>
          <a:xfrm>
            <a:off x="5195880" y="4984920"/>
            <a:ext cx="191520" cy="201600"/>
            <a:chOff x="5195880" y="4984920"/>
            <a:chExt cx="191520" cy="201600"/>
          </a:xfrm>
        </p:grpSpPr>
        <p:sp>
          <p:nvSpPr>
            <p:cNvPr id="839" name=""/>
            <p:cNvSpPr/>
            <p:nvPr/>
          </p:nvSpPr>
          <p:spPr>
            <a:xfrm>
              <a:off x="5195880" y="4997520"/>
              <a:ext cx="171720" cy="18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15680" y="4984920"/>
              <a:ext cx="171720" cy="18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3786120" y="2594520"/>
            <a:ext cx="5420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http://meme.nbcr.ne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CL is an interesting exampl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otif is low in information, an E-box: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ANNT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inds in cooperation with other more distinctive motif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iles on memory stick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Wits workshop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– conta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SCL.fa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– sequences, you will need them now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emeWits2013.ppt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and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 memeWits2013.pdf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– copy of slid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EMECHIP-run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– same outputs as the example you are running now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2489040" y="1130400"/>
            <a:ext cx="8407440" cy="722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4138920" y="8868240"/>
            <a:ext cx="5214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this will take a whi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584280" y="546120"/>
            <a:ext cx="14477760" cy="744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0" name=""/>
          <p:cNvSpPr/>
          <p:nvPr/>
        </p:nvSpPr>
        <p:spPr>
          <a:xfrm>
            <a:off x="1255320" y="4550040"/>
            <a:ext cx="10481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then work through the uploaded examp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y version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2" name=""/>
          <p:cNvSpPr/>
          <p:nvPr/>
        </p:nvSpPr>
        <p:spPr>
          <a:xfrm>
            <a:off x="2843640" y="5833080"/>
            <a:ext cx="7305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http://is.gd/MEME_Wits_2013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F binding can get quite complex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cus here on simpler c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ngle TF easily identifi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pairs of cofacto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ut also consider indirect bindi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uppor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s trip funded by Rhodes Univers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other support: NRF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ranscription overview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>
            <a:off x="1930320" y="8962200"/>
            <a:ext cx="91432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tem Cell Information, Appendix A: Early Development, NIH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1"/>
              </a:rPr>
              <a:t>http://stemcells.nih.gov/info/2001report/pages/appendixA.aspx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3238560" y="3213000"/>
            <a:ext cx="6527880" cy="48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ranscription complexity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1422360" y="2870280"/>
            <a:ext cx="10159920" cy="551160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3023640" y="9322920"/>
            <a:ext cx="69548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2"/>
              </a:rPr>
              <a:t>http://en.wikipedia.org/wiki/Transcription_facto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ask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haracterise putative binding si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 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motif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is a model of binding si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iven a specific TF, identify genomic regions where it is up or down regulat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determine what other TFs are involved in bindi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